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9AD-E259-4C73-88B5-E76CB522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DAB-53AC-434A-A74E-D9C55276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737-6838-47A3-8B19-3CF6638C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2C3-7F59-4935-9966-22F5E0CC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0EC-1465-46B8-A1ED-6FB07F8D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F69-C42D-473D-A94E-36ADF97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843-3D0B-45CA-88B2-AF25B9C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B8C-3B17-40F2-B3E2-A476C88A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22C-7FAF-43CC-8345-C57F4C5C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BB0-8C04-4D97-AB25-2B7F71C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849-356C-4CB6-AF28-1961C53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8A1-762C-47E0-8490-635690A8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9208-4A16-42CC-84F8-8CE0B7D2CB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chjiri1@gmail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Plánování a individuální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unkce plánování rozvoje služ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ro stanovení sítě potřebných služeb v lokal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 pro přidělování finančních prostředků na poskytování sociálních 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 regulace nabídky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ytváření plá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zástupců zájm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účast zástupců zadavatelů, poskytovatelů a uživatelů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yramida plánů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dní pl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ský pl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ístní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ojové plány organiz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ividuální plány klientů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dividuální podp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kázka klienta v sociální práci/terapii se mění v č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flektujeme na potřeby cílových skupin, jejichž potřeby jsou formálně kompenzovány jinými službami - mění se náhled na cílové skupiny (příklad – služby pro lidi s mentálním postižením nebo s chronickým duševním onemocnění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je podpora individualizovanější, tím obtížněji  je vyjádřitelná v obecném plá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íklad kolize plánování          a individuálních potřeb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měna „sociálních“ ubytoven na službu azylových do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 velkokapacitní pobytov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šance na návrat do běžn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vytvoření skupiny klientů bez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přednostněn zájem poskyto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je však pro zadavatele služeb snadno uchopitelný a vyjádřitelný v plá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íklad kolize plánování         a individuálních potřeb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alizace konceptu Housingfirst pro lidi  s chronickým duševním onemocně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lexe na individuální potřeby klientů z cílové skupiny, která byla pomíjena nebo bylo deklarováno, že jejich podpora je řešena jinými službami (domov se zvláštním režim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žba v přiroze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ky tomu, že nejde o silnou uživatelskou skupinu, je riziko, že její zájmy budou při plánování upozaděny         a bude dána přednost institucionálním řešen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limity plánování rozvoje sociálních služe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l by být (může vůbec) zadavatel sociálních služeb být nezávisl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pouštíme možnost konfliktu potřeb poskytovatelů služeb a jejich uživatelů? Pokud ano, co s tí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Děkuji Vám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ří M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chjiri1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603 192 6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J.Mach</cp:lastModifiedBy>
  <cp:lastPrinted>2013-11-27T13:37:00Z</cp:lastPrinted>
  <dcterms:modified xsi:type="dcterms:W3CDTF">2013-11-27T13:37:46Z</dcterms:modified>
  <cp:revision>45</cp:revision>
  <dc:subject/>
  <dc:title>Snímek 1</dc:title>
</cp:coreProperties>
</file>